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ilsson%20banner%20wide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9528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486400" y="457200"/>
            <a:ext cx="40449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ways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Management AVL System and Personal Security GPS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racking.Gilsson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8000" y="6400800"/>
            <a:ext cx="37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, Gilsson Technologies, All rights reserved. (version 1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7480" y="6248520"/>
            <a:ext cx="422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lsson Technologies, 2576 Barrington Court, Hayward, CA 945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ll Free: (866) GILSSON.COM, (510) 940-7777 WWW.GILSSO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9283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Gilsson </a:t>
            </a:r>
            <a:r>
              <a:rPr b="1" i="1" lang="zh-TW" sz="4800" spc="-1" strike="noStrike">
                <a:solidFill>
                  <a:srgbClr val="000000"/>
                </a:solidFill>
                <a:latin typeface="Arial"/>
              </a:rPr>
              <a:t>AlwaysFind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Web Base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 Fleet Management AVL 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&amp; Personal GPS Tr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ehicle’s location history is stored for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You can control your vehicle remotely via immobilizer, geo fencing, central lock, flashing light, etc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many other function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We are a distributor, what should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ign up with Gilsson Technologies for distribution the web base control cen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lk to local GSM wireless provider to secure the best price for SIM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lwaysFind hardware 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ovide local custom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will Gilsson Technologies do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a turnkey solution for vehicle and personal GPS tracking, including optional web base control center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marketing materials and product spec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-test tracking devices before 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ssist with installation of web base control center sw for enterpris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will Gilsson Technologies do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rk with distributors in addressing custom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the best yet affordable GP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it significant investment in R&amp;D and marketing, in providing the cutting edge GPS solutions and name brand recog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chnical Support team to assist potential and existing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hy sell Gilsson’s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AlwaysFin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GPS Tracker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espectable margin on GP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ecurring income stream: Distributors and dealers will receive commission on control center subscription for long term custom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mission from GSM wireless providers on selling SIM card and securing wireless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379240" y="2060640"/>
            <a:ext cx="514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System 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4292640"/>
            <a:ext cx="2495520" cy="142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GPS Track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Always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AlwaysFind 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141720"/>
            <a:ext cx="24382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/GPR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76760" y="4267080"/>
            <a:ext cx="112896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4292640"/>
            <a:ext cx="125100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437000"/>
            <a:ext cx="547920" cy="289080"/>
          </a:xfrm>
          <a:prstGeom prst="leftRightArrow">
            <a:avLst>
              <a:gd name="adj1" fmla="val 50000"/>
              <a:gd name="adj2" fmla="val 3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294000">
            <a:off x="3638520" y="3848400"/>
            <a:ext cx="289080" cy="312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227600">
            <a:off x="2233800" y="3848760"/>
            <a:ext cx="289080" cy="312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000">
            <a:off x="6781680" y="4495680"/>
            <a:ext cx="1446480" cy="312840"/>
          </a:xfrm>
          <a:prstGeom prst="leftRightArrow">
            <a:avLst>
              <a:gd name="adj1" fmla="val 50000"/>
              <a:gd name="adj2" fmla="val 9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4267080"/>
            <a:ext cx="1638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8862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COM por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58120" y="39625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ebbaseAVL基本架構圖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57276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000" y="2133720"/>
            <a:ext cx="891540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ystem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Gilsson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AlwaysFin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AVL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emote GSM &amp; GPS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ower and Vehicle Wiring H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 Serial Programming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3100003" descr=""/>
          <p:cNvPicPr/>
          <p:nvPr/>
        </p:nvPicPr>
        <p:blipFill>
          <a:blip r:embed="rId1"/>
          <a:stretch/>
        </p:blipFill>
        <p:spPr>
          <a:xfrm>
            <a:off x="6858000" y="2773440"/>
            <a:ext cx="17524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waysFind Vehicl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Specif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ize: 95(L) * 77(W) * 30(H)m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eight: 220 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c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ase Environmental Characteristic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perational Temperature: - 25 ~ + 70 °C (board temperatur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4 digital outputs (200mA ma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 digital inpu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 analog in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 RJ11 port for serial RS232 (low speed 9600 Baud) and Direct GPS output RS232 (4800 or 9600 Baud - depending on GPS modul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 RJ11 port for voice I/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 RJ45 MULTI port for high speed Direct modem access (TTL-CMO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lectrical Characteristic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Input Voltage: + 9~30 Volt DC regulated / 2A-MAX (GSM Transmi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ptional +9 ~60Volt DC regulated / 2A-MAX (GSM Transmi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ower Consump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2 Volt - 100~320 mA (GPS On Line, GSM/GPRS On Li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2 Volt - 60 mA (GPS on line, GSM standb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2 Volt - &lt;20 mA (GPS in Power Down Mode, GSM Standb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ackup Power: Nickel Metal Hydride Battery - 700 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emory Backup: Flash Memory - Data retention - 200 Yea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64 Kbyte (64000 * 8 Bits da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waysFind Vehic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irmware fea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 mode/GPRS mode/SMS+GPRS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/download settings, locations, and OS via G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platform for two way communication between control center and M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protocol for GPRS with handshaking. Minimize communication cost and data package l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U dead lock prot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waysF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s been in market for more than 3 yea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en ranked as highest level of car alarm system in New Zealand, Australia and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been used in many of European, American and Asian cou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ed at ISO 2000, QS 9000 certified facil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bration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lock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5000" y="2133720"/>
            <a:ext cx="891540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ystem requirement (does not include in the 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 with Windows 2000/X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IM card from a GSM wireless provider, such as Cingular GSM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T&amp;T Wireless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avigation software / digital map, such as Microsoft Streets &amp; 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e system will only work within GSM/GPRS cell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ustomer is responsible for SIM, SMS and GPRS data fees and any control center monitoring or access f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ct GPS Covert Tracking Device Designed for Vehicle Security / Micro GPS Tracking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integrates a high-performance micro GPS receiver with a GSM cellular transmi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rovides an emergency solution featuring innovative locating technology. It also provides you with peace of mind all the time when your vehicles are away from yo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6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508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 of GPS and GSM wireless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cket-sized / light-weighted / Rechargeable battery inclu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external antennae needed -- Just plug-&amp;-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r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onstantly sends SMS messages to its built-in three sets of phone numbers as regular report at the interval of 2 to 120 minutes with NMEA 0183 GPRMC, showing a user's ID and position data in the form of UTC, Latitude, Longitude, SOG, and C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: Sinc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s equipped with one piece of SIM card containing independent phone number, watchers can thus monitor a rover who equipped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by direct phone dialing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n distinguish a caller's identity, and the rover can decide whether to send his/her SMS messages containing the ID and position information back to the authentic c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S P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: you can poll also by sending SMS command t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The test machine is almost turned on any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Al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: When under emergent circumstances, you can issue an Emergency Alert for assistance by press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waysFind Mini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nic Button. Your location will then be sent immediately to the built- in phone numbers within a minute. The built-in 95-decibel alarm will be also buzzing loudly to call for hel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M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2205000"/>
            <a:ext cx="8915400" cy="39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a car owner, what service can I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any computer with internet access to determine the location of the vehicle (longitude, latitude, time, direction and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installed a Navigation software on the PC, your vehicle will be displayed on the m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ceive SMS alarm to notify you whenever your vehicle’s car alarm is activ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gin onto Gilsson web base control center to request your vehicle’s current location and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1:22:07Z</dcterms:created>
  <dc:creator>Kevin Wei</dc:creator>
  <dc:description/>
  <dc:language>en-US</dc:language>
  <cp:lastModifiedBy>M Ho</cp:lastModifiedBy>
  <dcterms:modified xsi:type="dcterms:W3CDTF">2006-01-18T21:09:21Z</dcterms:modified>
  <cp:revision>36</cp:revision>
  <dc:subject/>
  <dc:title>Small Business Fleet Management Solution</dc:title>
</cp:coreProperties>
</file>